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20.jpeg" ContentType="image/jpeg"/>
  <Override PartName="/ppt/media/image40.jpeg" ContentType="image/jpeg"/>
  <Override PartName="/ppt/media/image49.jpeg" ContentType="image/jpeg"/>
  <Override PartName="/ppt/media/image76.jpeg" ContentType="image/jpeg"/>
  <Override PartName="/ppt/media/image12.png" ContentType="image/png"/>
  <Override PartName="/ppt/media/image27.png" ContentType="image/png"/>
  <Override PartName="/ppt/media/image33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69.png" ContentType="image/png"/>
  <Override PartName="/ppt/media/image67.jpeg" ContentType="image/jpeg"/>
  <Override PartName="/ppt/media/image15.jpeg" ContentType="image/jpe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9A9-FE3A-4DDF-A21D-AF27CF21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382-4933-4546-AB75-ECBB458D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835-96B8-4D46-B65A-9E5CB7C1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1E79-69F2-473B-9FE4-8106C4E3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D139-9668-4FED-B994-406C7B6C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F402-BF08-467B-8F25-7A772A48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D879-A6E0-4939-9B42-C7F4B05B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0D6F-0ECF-488B-87DB-9CE6B027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02A5-34C3-42BD-9C3F-F7408670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C206-9BA6-4B3B-81E7-B34FAECB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A8A0-5DCE-43FE-BC43-591F603E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5B73-14E8-4CF5-9460-3791A9E3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FEED-79C6-4332-8A71-874D506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1294-09A6-410F-A305-92E32025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ACAE-E982-47D3-A8FE-34B42A5E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38A3-B2B8-436B-93A5-1A7FC860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AD24-E4FA-4D4A-9498-CF23A7642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AC964-F6CA-4065-BE05-4E095C96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EFC2-3206-4075-9C30-F73C5D9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62CB2-98F4-4774-9F3C-C7052FB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BFECB-9520-431E-9967-A9056AF8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E6C00-5551-48B9-9952-7CD9EEFA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AE6-49D0-4DFF-992F-4E6A2A89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7FFE-AB30-4FB2-AEBA-60276957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E67D6-FCE2-462B-AB7B-5B334C2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9601-0692-4834-BB95-3CDA9DBC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7578D-8A93-4077-A3C1-026B831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2F6FC-69B5-40A1-B4AA-1C6C847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B93C-03E1-4EBA-B683-D10DFFA0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B0987-D928-4D47-AC06-2D42B012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F76-7F68-488C-9416-C72A3E69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B282-84B2-4D7D-A60A-6404169C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E87B-A683-4FE1-8174-BE0D4E80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839-EE74-4A8C-AE20-8CB0145C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3382-D311-4252-AA27-8277B9E6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9052-F193-43AA-ACE7-12D6033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8A9-0814-4A6D-B9C0-6FC8536F1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04C7-2C72-4D1E-AE49-3225EDE6BB5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782D-CBDA-46FE-8C08-E1BF651126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55640" y="620640"/>
            <a:ext cx="792000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ая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ка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920" y="4221000"/>
            <a:ext cx="74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ФФК III  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ГПИ им. Н. К. Круп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39640" y="189000"/>
            <a:ext cx="8136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6000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260520" cy="2454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14960" y="1600200"/>
            <a:ext cx="3102120" cy="2335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260880" cy="245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292720" y="4257720"/>
            <a:ext cx="3166920" cy="23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260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Лыжная подгот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3000">
    <p:pull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ые иг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41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00720" y="208116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3240360" cy="2440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дено по 5 (2-3-час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анятий в спортивных секциях</a:t>
            </a:r>
            <a:r>
              <a:rPr b="1" i="1" lang="en-US" sz="32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мпи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4360" y="333360"/>
            <a:ext cx="78483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кционная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5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5549E-006 L 0.03594 0.08255 L 0.10799 0.08255 L 0.07205 0.16648 L 0.10799 0.24902 L 0.03594 0.24902 L -3.05556E-006 0.33295 L -0.03593 0.24902 L -0.10798 0.24902 L -0.07205 0.16648 L -0.10798 0.08255 L -0.03593 0.08255 L -3.05556E-006 -4.85549E-006 Z">
                                      <p:cBhvr>
                                        <p:cTn id="540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6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0" dur="2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2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4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6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8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68360" y="549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8 L 0.125 -0.16647 L 0.158 -0.04528 L 0.249 0 L 0.158 0.04528 L 0.125 0.16647 L 0.091 0.04528 L 0 0 Z">
                                      <p:cBhvr>
                                        <p:cTn id="56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36720" cy="2017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826920" y="260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Олимпиец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476360" y="42228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140360" y="1844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586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90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1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00000" y="404640"/>
            <a:ext cx="691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ске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2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900000" y="47628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лей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14920" cy="2765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63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16000" y="47628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814560" cy="2765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14920" cy="276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роведены внеклассные спортивно-массов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баскетболу (9 класс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волейболу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мини-футболу (5-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ревнования «Папа, мама, я – спортивная семья!» (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урнир по волейболу «Учителя, ученики, студ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оварищеская встреча по мини-футболу «Студенты-уче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некласс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Средняя общеобразовательная школа № 10 г. Йошкар-Ол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57340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8.01.2007 - 11.02.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 spd="slow" advTm="9000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па,мама,я - спортивная семья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07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05928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726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185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0" y="404640"/>
            <a:ext cx="91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рнир к Дню защитника Отечеств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2905200" cy="2187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052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7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ини - футбол "Студенты - учен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25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-0.00185 C 0.07448 -0.00185 0.13055 0.07283 0.13055 0.16462 C 0.13055 0.25641 0.07448 0.33109 0.00555 0.33109 C -0.06337 0.33109 -0.11945 0.25641 -0.11945 0.16462 C -0.11945 0.07283 -0.06337 -0.00185 0.00555 -0.00185 Z">
                                      <p:cBhvr>
                                        <p:cTn id="79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0532 L -0.04253 -0.19052 L 0.20747 0.00532 L -0.04253 0.00532 Z">
                                      <p:cBhvr>
                                        <p:cTn id="7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2498 C 0.00973 0.00093 0.03073 -0.03352 0.05573 -0.03352 C 0.09271 -0.03352 0.12275 0.00232 0.12275 0.04763 C 0.12275 0.0622 0.1198 0.07561 0.11372 0.08763 C 0.11476 0.08763 -0.00225 0.26729 -0.00225 0.26867 C -0.00225 0.26729 -0.11927 0.08763 -0.11822 0.08763 C -0.1243 0.07561 -0.12725 0.0622 -0.12725 0.04763 C -0.12725 0.00232 -0.09722 -0.03352 -0.0592 -0.03352 C -0.03524 -0.03352 -0.01423 0.00093 -0.00225 0.02498 Z">
                                      <p:cBhvr>
                                        <p:cTn id="80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80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68360" y="333360"/>
            <a:ext cx="8064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школе мы не толь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414972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одили уроки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894200" y="5300640"/>
            <a:ext cx="424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о и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14000"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79280" y="260280"/>
            <a:ext cx="89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   на   лыжах   даже в   спортзал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097080" cy="2332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273480" cy="478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3168720" cy="238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 rot="5400000">
            <a:off x="-90000" y="2256840"/>
            <a:ext cx="1477800" cy="79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"/>
          <p:cNvSpPr txBox="1"/>
          <p:nvPr/>
        </p:nvSpPr>
        <p:spPr>
          <a:xfrm rot="5400000">
            <a:off x="-178560" y="4939560"/>
            <a:ext cx="1728720" cy="723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 rot="5400000">
            <a:off x="6948000" y="35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ш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 advTm="17000">
    <p:pull dir="rd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83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68360" y="-243000"/>
            <a:ext cx="8064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вью для школьной газ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313080" cy="2495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5003640" y="393372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rd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39640" y="260280"/>
            <a:ext cx="828036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гда болеем за свои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971640" y="1773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95280" y="18900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уденты тоже люди..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93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680000" cy="3511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203640" cy="42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68360" y="404640"/>
            <a:ext cx="82072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ассный ча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2000">
    <p:pull dir="r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97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8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7928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бумаг больше чем рабо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394080" cy="2658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286080" cy="247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316320" cy="2516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0160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1268280"/>
            <a:ext cx="3448080" cy="59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чаева Ольга Андр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59280" y="1268280"/>
            <a:ext cx="338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торова Екатерина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3860640"/>
            <a:ext cx="403380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арова Окса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3860640"/>
            <a:ext cx="367344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ухарев Павел Александ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755800" cy="1973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735280" cy="2104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684360" y="189000"/>
            <a:ext cx="777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уппа студент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40464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"захвата" 10 шк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pull dir="rd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95280" y="404640"/>
            <a:ext cx="792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мы как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5795280" y="3573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чаровашки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pull dir="r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24000" y="404640"/>
            <a:ext cx="360036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денко Пётр Юр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716360" y="333360"/>
            <a:ext cx="3990960" cy="61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баков Александр 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5280" y="3357720"/>
            <a:ext cx="4251240" cy="40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ов Михаил Васил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8000" y="3500280"/>
            <a:ext cx="3768480" cy="2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оров Артём Никола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1288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205240" y="90792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уководитель практ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Грищук Елена 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етоди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Шаблатова Але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юр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л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лан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26920" y="333360"/>
            <a:ext cx="7312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 по физкультурной рабо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60055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я физкультур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лассные руководител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ибылова Людмил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Яранц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Скрипунова Еле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хматов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сарева Ни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лаев Андрей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ырупаева Ма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Лихачева Людмил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дагоги по классному руководств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9000"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Директо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ожеуров Владими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и директора по УВ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рельникова Валентина Кузьм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сибуллина Нурия Рауш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по ВР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уб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е вожатые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верева Венера Анс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ирее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удковская Ю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болотских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ельдше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рова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ащихся  в школе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с ЗПР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5400000">
            <a:off x="5409000" y="3096360"/>
            <a:ext cx="6338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бщие сведения о школ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2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роверка днев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бщественно-полез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дготовка к плановым меропри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сещение кинотеатра и Ледового Д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сихолого-педагогические характеристи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ечера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260280"/>
            <a:ext cx="77058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оспита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класс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5000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ff"/>
                </a:solidFill>
                <a:uFillTx/>
                <a:latin typeface="Arial"/>
              </a:rPr>
              <a:t>Проведено по 32 урока физической культур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ижных игр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ртивных игр в 5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ыжной подготовки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6920" y="26028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8000">
    <p:pull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4:27:33Z</dcterms:created>
  <dc:creator>Ирина</dc:creator>
  <dc:description/>
  <dc:language>en-US</dc:language>
  <cp:lastModifiedBy>Ирина</cp:lastModifiedBy>
  <dcterms:modified xsi:type="dcterms:W3CDTF">2007-02-19T18:48:07Z</dcterms:modified>
  <cp:revision>11</cp:revision>
  <dc:subject/>
  <dc:title>Педагогическая практика</dc:title>
</cp:coreProperties>
</file>